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9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6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0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482ED-EA1D-4ADE-9D22-3CE201A69EC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275FC-17CE-4B71-9583-CE26B3F36D5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160B6-4E40-43E5-A51D-0E1F5F1A069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66328-B852-4B88-B2F6-7BF12C92F42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73373-9626-4A2B-9691-C22B46C7D2F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1634B-8DCE-449B-99F0-B82CCD12A32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63225-67A9-4E78-9D7A-6ABA2F9D8C8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28F9A-1F38-4B88-A028-6C4C62DDB11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013C3-C6E3-4A8A-9216-2D14C16B429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E7D73-0697-406C-9DD0-E7C750603F6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3FAF2-DC42-4844-A73B-84C6466B7AD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5F544-FFBA-453D-A17C-BAB2DF4C55C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48C5F-9294-4DF4-B589-EAA8A314815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D1A8F-A769-44FF-9E07-3E136366452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2947B-34E9-4495-BC38-96E681E3167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C126A-B004-448B-97FD-62C1B17566C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BD27E-B83D-47EE-BFDD-4600B465779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1CA87-4170-444D-A0F2-BAA6E4AAC22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3BEF8-694A-4765-8BCB-A2608D1B3E0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54D1C-5FDA-443E-96F1-A401A7E0846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64181-929F-4D7E-9F78-A2CD3D5CE05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115A9-0385-44D5-B619-1560A50CA71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79FF4-A743-4A3D-B605-B670BB890A6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05203-8105-4487-804B-5B93BE4EF70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6FBD7-5133-4E63-976E-5236B2D1B07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45CE6-7B9C-4C8E-9E7F-303BBE203B0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FDFC6-9E8C-4E1C-8AAC-45C3F82C532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8C52E-4BCF-4674-AE75-571B9B9B37B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5F624-2382-4F43-9DAF-A9969037A60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8CA74-A12A-4315-B068-DD76A387E19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DFBC5-A90B-4CB1-82F5-72B50AB34B5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17FF-4351-4EB4-BBD4-1D752EA5FC0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3E756-4C02-4EC8-99D4-B1E14E56883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5AF35-A127-48A1-B215-CB360794939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771C6-803F-4675-A485-329A94607AC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CB7AB-3C7D-40EB-8BEF-13B380F9787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29F95-EFDB-4DEC-84CD-A29CF7F2AC1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3AD6E-56D5-4FE6-B01E-68655C30D1C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EDD0C-6144-44BF-9A6B-F93BBB92FA9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D5DCD-0FFF-4422-9A0A-FBB95A38B1A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C1DE8-A0D6-4CEE-94E5-ACCDEA916C7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7000E-93C2-4A3B-84FD-07EE7908DE2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CE80E-7F8A-4EBC-BD2E-D89C1FA521B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E631E-E1C1-477A-B4C6-A7CB363BEE4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ABF8A-C742-44A3-9171-32AB95C4866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41741-1A44-4C8B-97CB-D7FF8F49353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392F5-3487-4FD6-8303-3085A8E2DC9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771B8-3B75-4C30-85C8-A23238FF840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A0E94-3A14-4958-A3C4-9D2ACFF3E4B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1DE16-F9F9-4C4B-A28C-61064368858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A86B4-A801-4705-9629-53059F3CC7A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3134D-16D8-4702-A730-A0F73002A71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6E676-3845-47A6-AAE4-E29F9C570DF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5485D-1759-4424-B362-059789E26AF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C836F-D004-44DE-822E-759AD63A316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799C-6B0D-479D-94F7-E7F9539E7D5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2ECCE-7C0C-48F3-AC1D-0D97114E345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D7441-1A3F-4FA3-BE78-D8B30420B02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956A2-7819-48C9-BA08-AD2FB26E426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DB860-E498-4E07-B4B7-074048F519D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52316-2F46-410D-910B-8B8C1E1E054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CE812-7082-4A23-9AA9-9EEF69BE718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B6250-33FD-4DC4-8029-FA1FB51BAC1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EE8CE-8834-43BA-9185-1C5B6B6CD59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283C9-4A64-444A-8166-0BC1210E6E8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DAC61-38D8-45BA-BA72-D2BD1C3A648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69E41-208A-4B74-A5D8-ED88A15240E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42CE2-ABF6-4FBB-A99C-C63AB3BBDF3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DB7B8-ED4F-42BB-8F48-7D93639FF73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A7F1E-F627-4E0F-ADF8-F53EB54B436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940E6-D0DB-4C89-A711-B26AE026E68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EC650-70D7-466E-ADBF-D5073B94128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FC484-6C23-4CF1-9E6C-C204B793240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0B532-BCD9-4579-B8A5-BCB9744D342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38D2C-2AA9-4262-8C7D-7CFBEC5853B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905F1-FC79-403F-AD83-F082853DBCD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0E6C0-901B-4842-A537-C46FD99636F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1FF7B-4603-484B-A07D-4A3337BC98E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85C9F-14F7-4BD9-A84D-ED64AEF2246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8602A-5761-4109-8AED-5DABB7515F5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7B950-A0C4-4038-AC70-97F7256EDB7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9D6E1-3860-4B07-9627-9E61282A1F1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12B0-0199-484E-B0A0-630E546FF87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C366D-DDD2-4C25-AC7F-C75E7D82BEE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6F989-C9C2-4436-8895-184C1671D3F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61C5E-CE3F-4A9E-B0F9-A4D00A5F6F6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B752D-2ADC-4396-AB37-D2431B327AE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22492-1E63-4300-ADC7-D9112503326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C0E23-1A22-4BA9-9ACE-6B37F377318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0260-A153-4E49-A023-02355945E2F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3A9B3-68EE-4651-AC7F-3905C8F4420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7CC45-1443-4C6B-A8E3-33144F143FB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02A0D-AB27-402D-AC06-E54D584AF19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816B2-A4EA-4FD5-8AC1-82242DB0F56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60FE1-2635-45F5-9722-64275620FB3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EC13C-390F-439C-8DC6-CA94170FA7D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0E965-962E-49EF-A4A5-7BC1547A2F7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FA73D-91E2-4C1E-88AB-3E21B342ADF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5BCD8-3BFB-4260-AD3A-4C7CEB39D02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796CB-DD96-4796-9D95-A8FFAB3979D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D821D-961E-48D2-8B7B-C17705C86B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15235-F87B-448C-82E4-2765542C5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1E929-FD15-4E1F-A8E2-7B016540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A7228-278B-4A88-A86B-49EA4FD914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F6441-FA57-4292-8A0E-660A60F8F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1DF35-7569-486F-AB7C-1831175D2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2D359-6404-479C-B156-3ACE2FF0C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C2385-86F4-41B2-B020-5518B2AD7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4CFFF-321C-4A30-8086-08CA410CC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71C94-F420-4687-A5EB-336F9FA09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8DFBC-7768-44B5-9D12-0448A64A8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8826D-4BFD-4952-9BEE-D391263EB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1856A-1073-4B33-945F-117CFCAD814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二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生命体征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23640" y="1267920"/>
            <a:ext cx="847404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昼夜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运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李某，肺炎球菌性肺炎，口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脉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口唇干燥，下列护理措施不妥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卧床休息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体温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鼓励饮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冰袋放于头顶、足底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日口腔护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宜测量口腔温度的患者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躁狂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困难者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极度消瘦者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鼻手术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频发的间歇脉常见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房室传导阻滞　 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窦性心律不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洋地黄中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动过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动过缓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代谢性酸中毒患者的呼吸表现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深长而规则的呼吸　 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浮浅性呼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蝉鸣样呼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和呼吸暂停交替出现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气和呼气均感费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于中度缺氧症状，下列描述不妥的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明显发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凹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烦躁不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分压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m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mmHg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Sa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%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人精神紧张时可引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、舒张压升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、舒张压均无变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升高，舒张压无明显变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降低，舒张压升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无明显变化，舒张压升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命体征的生理变化，叙述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夏天，体温和血压略增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情绪激动时体温和血压略增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年以前女性的体温和血压高于男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老年人体温低于青年人，血压高于青年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儿的脉搏比成人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式呼吸减弱可见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大量腹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腔巨大肿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膜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壁静脉曲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性肾盂肾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张性缺氧常见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山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天性心脏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力衰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氧化碳中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慢性阻塞性肺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李某，女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因反复咽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月，畏寒、高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住院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格检查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 39.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 1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 2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。发育正常，营养良好，应答切题，面色潮红，皮下无出血点，全身淋巴结未触及，咽部充血，两肺未闻及干、湿啰音，心脏听诊闻及病理性杂音。患者虚弱无力，不安、烦躁，影响睡眠，迫切希望症状消除，了解发热的相关知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患者的生命体征存在哪些问题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护士应为患者提供哪些护理措施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509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热原因：分为感染性发热、非感染性发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程度的判断（以口腔温度为标准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7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8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度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8.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.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1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超高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1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过程及症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上升期：其特点为产热大于散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热持续期：其特点是产热和散热在较高水平上趋于平衡，体温维持在较高状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退热期：其特点是散热增加而产热趋于正常，体温恢复至正常的调节水平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临床常见热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稽留热：体温持续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达数日或数周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波动范围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常见于肺炎球菌性肺炎、伤寒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弛张热：体温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波动范围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但最低体温仍高于正常水平。常见于败血症、风湿热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歇热：体温骤然升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持续数小时或更长时间，又突然下降至正常水平或正常水平以下，经过一个间歇，再次发作，即高热期和无热期交替出现，常见于疟疾、成人肺结核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规则热：发热无一定规律，且持续时间不定。常见于流行性感冒、肿瘤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降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情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情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营养和水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腔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肤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安全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证充足的休息与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物理降温技术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冰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ice bag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冰帽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ice cap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冷湿敷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ld moist compres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水或乙醇拭浴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epid water sponge bath/alcohol sponge bat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冷疗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过低：体温低于正常范围称为体温过低。当体温低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5 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时称为“体温不升”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的原因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的分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的症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患者的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热水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ot water bag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的使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05280" indent="-3052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5280" indent="-3052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5280" indent="-3052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体温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呼吸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四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过低的原因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中枢发育未成熟，常见于早产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散热过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热减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调节中枢受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过低的分度（以口腔温度为标准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轻度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5 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度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2 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度     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 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瞳孔散大，对光反射消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致死温度 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 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低的症状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寒战，面色苍白，口唇、耳垂呈紫色，四肢厥冷，心搏、呼吸减慢，血压下降，尿量减少，甚至出现意识障碍，导致昏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低患者的护理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观察病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积极进行病因治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6304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热水袋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hot water bags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的使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2364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计的种类及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计的消毒与检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计的种类及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玻璃汞柱式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可弃式化学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电子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感温胶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红外线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-3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计的消毒与检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体温计的消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体温计的检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将水银柱甩至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5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以下，同时放入已测好的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以下（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的水中，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钟后取出检测，若体温计相差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0.2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或以上、水银柱自行下降、玻璃管有裂隙等则不能再使用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75528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的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5528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判断体温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态监测体温的变化，分析热型及其伴随症状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诊断、预防、治疗和护理等提供依据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体温、脉搏、血压、呼吸的正常范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发热的过程及症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氧气疗法的种类和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解释体温、脉搏、血压、呼吸的形成与调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正常体温、脉搏、血压、呼吸的生理变化及影响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异常体温、脉搏、血压、呼吸评估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928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的一般情况，如年龄、病情、临床诊断、治疗等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的意识状态、心理状况及合作程度以确定测量的方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无影响体温测量准确性的因素存在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检查测体温处皮肤黏膜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5528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36120" y="105264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合理选择测量部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避免影响测温的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为婴幼儿、意识不清或者不合作的患者测体温时，护理人员应当守候在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发现体温与病情不相符合时，作对照复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056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如患者不慎咬破水银温度计，应当立即清除口腔内玻璃碎片，再口服蛋清或牛奶延缓汞的吸收。若病情允许，食用富含纤维的食物以促进汞的排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甩体温计时要用腕部的力量，不可触及其他物品，以防撞碎；用离心机甩体温计时，应将体温计消毒后再放入离心机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 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脉搏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脉搏及生理性变化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脉搏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的形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脉搏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脉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脉律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脉搏的强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动脉壁的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脉搏及生理性变化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率：正常成人在安静状态下，脉率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，与呼吸之比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脉率易受各种生理因素影响而发生变化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、情绪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、饮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率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节律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强弱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脉壁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率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速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缓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节律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歇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绌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5056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强弱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洪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丝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交替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奇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水冲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搏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脉壁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陈述体温异常患者的护理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各项促进呼吸功能技术的操作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不同缺氧类型的特点与原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为患者测量生命体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情况，选择适宜的物理降温方法并按规程完成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为患者进行氧气吸入疗法和吸痰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9492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脉搏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丝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备好急救物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部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搏测量的部位多选择浅表、靠近骨骼的大动脉（如桡动脉、颞动脉、颈动脉、肱动脉、腘动脉、足背动脉、胫后动脉和股动脉等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判断脉搏有无异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态监测脉搏变化，间接了解心脏、动脉管壁、血容量等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诊断、预防、治疗和护理提供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一般情况，如年龄、病情、临床诊断、治疗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量部位的皮肤完整性及肢体活动度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无影响脉搏测量准确性的因素存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状态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偏瘫患者应选择健侧肢体测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量脉搏前如有剧烈运动、紧张、恐惧、哭闹等，应休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再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勿用拇指诊脉，因拇指小动脉的搏动较强，易与患者的脉搏相混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异常脉搏应测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；脉搏细弱难以触诊时，应测心尖搏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呼吸及生理性变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异常呼吸的评估及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测量技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呼吸的技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呼吸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的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中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的反射性调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牵张反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本体感受性反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御性呼吸反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化学性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呼吸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呼吸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呼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频率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。节律规则，呼吸运动均匀、无声且不费力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情绪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：环境温度过高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频率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节律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度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声音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困难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体温的评估及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体温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体温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测量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度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深度呼吸：又称库斯莫尔呼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浅快呼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声音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蝉鸣样呼吸：常见于喉头水肿、痉挛、喉头异物等浅快呼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鼾声呼吸：由于气管或支气管内有较多的分泌物积蓄所致，表现为呼吸时发出一种粗大的鼾声，多见于昏迷和神经系统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困难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气性呼吸困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气性呼吸困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混合性呼吸困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供舒适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供营养和水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判断呼吸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态监测呼吸变化，了解患者呼吸功能的情况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诊断，为预防、治疗、康复和护理提供依据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判断呼吸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态监测呼吸变化，了解患者呼吸功能的情况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诊断，为预防、治疗、康复和护理提供依据。患者的一般情况如年龄、病情、临床诊断、治疗及呼吸状况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的频率会受到意识的影响，测量时不必告诉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患者有紧张、剧烈运动、哭闹等，需稳定后测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危重患者呼吸微弱，可用少许棉花置于患者鼻孔前，观察棉花被吹动的次数，计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促进呼吸功能的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效咳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叩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位引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湿化和雾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吸痰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形成及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的形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热与散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的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07640" y="1125000"/>
            <a:ext cx="8785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除患者呼吸道分泌物，保持呼吸道畅通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呼吸功能，改善肺通气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并发症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病情、意识状态、治疗和护理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腔黏膜是否正常，有无鼻中隔弯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呼吸状况，有无呼吸困难、痰鸣音等，以及患者自行排痰的能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反应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无菌操作，治疗盘内吸痰用物每日更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，吸痰导管每次更换，贮液瓶及连接导管每日进行清洁消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贮液瓶内应先放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 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消毒液，瓶内吸入液不宜过满，应及时倾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气管插管或气管切开患者由插管或套管内插入，气管切开患者吸痰时应严格按无菌操作进行，先吸气管切开处，再吸口腔或鼻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次吸痰时间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秒，以免造成缺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痰液黏稠，可叩拍胸背或交替使用超声雾化吸入，气管插管或气管切开者还可缓慢滴入氯化钠溶液或化痰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的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程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适应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供氧装置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监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34800" y="1125000"/>
            <a:ext cx="84744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的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张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液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组织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34800" y="1197000"/>
            <a:ext cx="84744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程度：见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2-3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8" name="矩形 1"/>
          <p:cNvSpPr/>
          <p:nvPr/>
        </p:nvSpPr>
        <p:spPr>
          <a:xfrm>
            <a:off x="4147920" y="324468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氧疗方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358920" y="2133720"/>
          <a:ext cx="8785080" cy="4433760"/>
        </p:xfrm>
        <a:graphic>
          <a:graphicData uri="http://schemas.openxmlformats.org/drawingml/2006/table">
            <a:tbl>
              <a:tblPr/>
              <a:tblGrid>
                <a:gridCol w="626760"/>
                <a:gridCol w="1722600"/>
                <a:gridCol w="1724040"/>
                <a:gridCol w="1384200"/>
                <a:gridCol w="1057320"/>
                <a:gridCol w="1135080"/>
                <a:gridCol w="1135080"/>
              </a:tblGrid>
              <a:tr h="69516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程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临床表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血气分析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9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发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呼吸困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神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SaO</a:t>
                      </a:r>
                      <a:r>
                        <a:rPr b="1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PaO</a:t>
                      </a:r>
                      <a:r>
                        <a:rPr b="1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kPa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PaCO</a:t>
                      </a:r>
                      <a:r>
                        <a:rPr b="1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kPa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822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轻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不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清楚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&gt;8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.6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.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.6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95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中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正常或烦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0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8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.6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.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822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重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显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严重、三凹征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昏迷或半昏迷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.6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2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34800" y="1125000"/>
            <a:ext cx="84744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适应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活量减少因呼吸系统疾病而影响肺活量者。如哮喘、支气管肺炎、气胸等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肺功能不全使肺部充血而致呼吸困难者。如心力衰竭时出现的呼吸困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23640" y="1196640"/>
            <a:ext cx="84740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的产热器官为肝和骨骼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散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散热的重要方式有辐射、传导、对流和蒸发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34800" y="1125000"/>
            <a:ext cx="84744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适应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不能由毛细血管渗入组织而产生缺氧。如一氧化碳中毒、巴比妥类药物中毒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昏迷患者如脑血管意外、颅脑损伤等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如某些外科手术前后患者、大出血休克患者、分娩时产程过长或胎心音不良的产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给氧压力分为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压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压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给氧浓度分为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浓度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浓度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浓度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23640" y="1341360"/>
            <a:ext cx="847404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供氧装置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筒与氧气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心供氧装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压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导管给氧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塞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面罩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罩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技术（以鼻塞法为例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程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纠正各种原因造成的缺氧状态，提高动脉血氧分压和动脉血氧饱和度，增加动脉血氧含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组织新陈代谢，维持机体的生命活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病情、意识状态、治疗和护理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缺氧状况、血气分析结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呼吸道是否畅通、鼻腔黏膜情况及有无鼻中隔弯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状况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程序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遵守操作规程，注意用氧安全，切实做好“四防”：即防震、防火、防热、防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氧过程中，正确评估患者脉搏、血压、精神状态等有无改善，衡量氧疗效果，选择适当的用氧浓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导管持续用氧者，每日更换导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，双侧鼻孔交替插管。及时清除鼻腔分泌物，防止导管阻塞而失去用氧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筒内氧气不可用尽，压力表指针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5 M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 kg/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时即不可再用，以防再次充氧时引起爆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23640" y="1268280"/>
            <a:ext cx="847404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性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行为性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监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缺氧症状：患者由烦躁不安变为安静、心率变慢、血压上升、呼吸平稳、皮肤红润温暖、发绀消失，说明缺氧症状改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实验室检查：主要观察氧疗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a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a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a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监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装置：有无漏气，是否通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疗的副作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中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不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抑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晶状体后纤维组织增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道分泌物干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四节  血压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血压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测量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形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血压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血压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血压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搏输出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外周阻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血容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液的黏滞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脉管壁的弹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血压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量血压一般以肱动脉血压为标准。正常成人安静状态下的血压范围为收缩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舒张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脉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昼夜和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异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在未使用降压药物的情况下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以上成年人收缩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B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4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（或）舒张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B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分为原发性高血压与继发性高血压两大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分类标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23640" y="1267920"/>
            <a:ext cx="847404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体温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755640" y="2637000"/>
          <a:ext cx="8077320" cy="1728720"/>
        </p:xfrm>
        <a:graphic>
          <a:graphicData uri="http://schemas.openxmlformats.org/drawingml/2006/table">
            <a:tbl>
              <a:tblPr/>
              <a:tblGrid>
                <a:gridCol w="1978200"/>
                <a:gridCol w="3582720"/>
                <a:gridCol w="2516400"/>
              </a:tblGrid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部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正常范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平均值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363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口腔（舌下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腋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直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.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.2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7.3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9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6.8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8.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.5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.7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7.7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9.9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8.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.5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7.7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.5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9.5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压低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0/6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称为低血压。常见于大量出血、休克、急性心力衰竭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异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增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减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良好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饮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活规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控制情绪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坚持运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监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有水银血压计、无液血压计和电子血压计三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压气球及压力活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袖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压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判断血压有无异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态监测血压变化，间接了解循环系统的功能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诊断，为预防、治疗、康复和护理提供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一般情况，如年龄、病情、临床诊断、治疗情况及既往基础血压值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被测肢体功能情况及测量部位皮肤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无影响血压测量准确性的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状态与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：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定期检测、校对血压计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现血压听不清或异常，应重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测压装置（血压计、听诊器）、测量者、受检者、测量环境等因素引起血压测量的误差，以保证测量血压的准确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照中国高血压防治指南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版）对血压测量的要求进行测量：应相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重复测量，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读数的平均值记录。如果收缩压或舒张压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读数相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应再次测量，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读数的平均值记录。首诊时要测量两上臂血压，以后通常测量较高读数一侧的上臂血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7:57:43Z</dcterms:modified>
  <cp:revision>161</cp:revision>
  <dc:subject/>
  <dc:title>内科护理学</dc:title>
</cp:coreProperties>
</file>